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0F6E-20AD-49E2-8AD6-0CF0452A746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82E4-5BB3-41B9-A5F3-8BB3A89E35B4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1881-95EB-4191-B36C-20D060504329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3927-2672-4862-8A1B-99C88EA0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D05B-4EBA-4969-B8A4-7DC8D255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8BC5-9D62-4F12-9DFA-BFDC2E84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AF2C-4A6E-45C4-8181-996E42B3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00C-1531-416D-A18C-CF376A17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110D-2AB8-4E41-B8E4-5901FEF2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0372-1999-47FA-BAEA-7427DE31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2702-E270-42D2-9F70-889A7E54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BA38-B4B9-4399-8354-DE9761C1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C1D2-7F32-446D-87FE-12C66648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4D52-D97C-4AD3-AB21-51A6DEE3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C1AC-1C88-405A-A6BF-1E5E980E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9C36-4749-42CB-8330-7577376BC92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73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2:13Z</dcterms:modified>
  <cp:revision>254</cp:revision>
  <dc:subject/>
  <dc:title>슬라이드 1</dc:title>
</cp:coreProperties>
</file>