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57FB6-C321-4133-8C4B-2B841A8F0FFB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53BE1-5719-4DE9-9185-E927446AA56F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25592-03BB-4860-937B-3750E1AFA225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141AB-BDD8-4F39-9530-4E29E960D3CE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71B1-B63C-49EE-B3F3-ADB44A1B2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9EE4-877F-4430-867F-2771C3410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4F28-B58B-4379-B4EF-BE9B63892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3321-E1E9-4A10-AAA6-6B1624205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768C-75F5-4772-891C-072B8108C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E785-7821-4DE9-AA1C-C3535DC02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74B8-0A3C-4421-B5E4-34845DA03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28FE-FE74-4323-9C48-5C5438B1E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C001-5BFA-4B1B-871E-B04E0D4AA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4288-D577-4CB0-9DAB-BB660D37A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0DFB-977B-46CC-8B13-A11096739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A4F8-78CC-4E5D-ACCA-91495BDD6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451B8-4A82-4F38-A272-5A91AC42CA0B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7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직사각형 33"/>
          <p:cNvSpPr/>
          <p:nvPr/>
        </p:nvSpPr>
        <p:spPr>
          <a:xfrm>
            <a:off x="7920000" y="3386160"/>
            <a:ext cx="1352520" cy="252252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169920" y="996840"/>
            <a:ext cx="4533840" cy="55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1000*820*2100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장 겸용 책상으로 두 가지 제품의 장점을 적용한 제품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최대한의 수납공간을 많이 적용하려고 노력함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상 측판은 상판을 견고하게 잡아주는 역할을 하며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곡선으로 디자인하여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지루하지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않도록 설계됨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장에 상판과 측판을 세우는 구조로 하부 수납가구를 별도로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설치할 필요가 없어 경제적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상 위 작은도어를 적용하여 개인사물함을 보관할 수 있도록 시건장치 부착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상 배선을 위해 설계되어 개폐가 용이한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4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구 콘센트와 배선 홀 배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0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몸통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도어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선반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8t PB +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1.2t ABS EDGE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상상판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23t PB +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1.2t ABS EDGE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콘센트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콘센트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4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구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(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퍼맥스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FP-PW202)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상상판 보강 브라켓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T STEEL +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도장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0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컬러칩</a:t>
            </a: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44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ALT2 </a:t>
            </a:r>
            <a:r>
              <a:rPr b="1" lang="en-US" sz="10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_ DESK &lt;DSD3012-</a:t>
            </a:r>
            <a:r>
              <a:rPr b="1" lang="ko-KR" sz="10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책상</a:t>
            </a:r>
            <a:r>
              <a:rPr b="1" lang="en-US" sz="10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0" name="그림 10" descr="color.jpg"/>
          <p:cNvPicPr/>
          <p:nvPr/>
        </p:nvPicPr>
        <p:blipFill>
          <a:blip r:embed="rId1"/>
          <a:stretch/>
        </p:blipFill>
        <p:spPr>
          <a:xfrm>
            <a:off x="284040" y="5911920"/>
            <a:ext cx="1729080" cy="368280"/>
          </a:xfrm>
          <a:prstGeom prst="rect">
            <a:avLst/>
          </a:prstGeom>
          <a:ln w="0">
            <a:noFill/>
          </a:ln>
        </p:spPr>
      </p:pic>
      <p:sp>
        <p:nvSpPr>
          <p:cNvPr id="91" name="Text Box 51"/>
          <p:cNvSpPr/>
          <p:nvPr/>
        </p:nvSpPr>
        <p:spPr>
          <a:xfrm>
            <a:off x="1981080" y="614376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직선 연결선 4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직사각형 45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※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상기 자재 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&amp; HARDWARE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는 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K.S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,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직선 연결선 46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5" name="그림 49" descr=""/>
          <p:cNvPicPr/>
          <p:nvPr/>
        </p:nvPicPr>
        <p:blipFill>
          <a:blip r:embed="rId2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96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7" name="그림 42" descr="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pic>
        <p:nvPicPr>
          <p:cNvPr id="98" name="그림 1" descr=""/>
          <p:cNvPicPr/>
          <p:nvPr/>
        </p:nvPicPr>
        <p:blipFill>
          <a:blip r:embed="rId4"/>
          <a:srcRect l="33175" t="0" r="33655" b="0"/>
          <a:stretch/>
        </p:blipFill>
        <p:spPr>
          <a:xfrm>
            <a:off x="4924440" y="1181160"/>
            <a:ext cx="2468520" cy="4962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9" descr="D:\문서관리폴더-리바트.법인운영\부서문서함-문승\B.네오스영업지원\A.제안자료\02.대리점현장\2015\6월\0609-아주대학교 화홍관 기숙사(김현종GJ)\참고자료\image_2.jpg"/>
          <p:cNvPicPr/>
          <p:nvPr/>
        </p:nvPicPr>
        <p:blipFill>
          <a:blip r:embed="rId5"/>
          <a:stretch/>
        </p:blipFill>
        <p:spPr>
          <a:xfrm>
            <a:off x="7967520" y="4925880"/>
            <a:ext cx="1252800" cy="9385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0" descr="D:\문서관리폴더-리바트.법인운영\부서문서함-문승\B.네오스영업지원\A.제안자료\02.대리점현장\2015\6월\0609-아주대학교 화홍관 기숙사(김현종GJ)\참고자료\image_4.jpg"/>
          <p:cNvPicPr/>
          <p:nvPr/>
        </p:nvPicPr>
        <p:blipFill>
          <a:blip r:embed="rId6"/>
          <a:stretch/>
        </p:blipFill>
        <p:spPr>
          <a:xfrm>
            <a:off x="7967520" y="3768840"/>
            <a:ext cx="1252800" cy="936360"/>
          </a:xfrm>
          <a:prstGeom prst="rect">
            <a:avLst/>
          </a:prstGeom>
          <a:ln w="1440">
            <a:solidFill>
              <a:srgbClr val="ffffff"/>
            </a:solidFill>
            <a:miter/>
          </a:ln>
        </p:spPr>
      </p:pic>
      <p:sp>
        <p:nvSpPr>
          <p:cNvPr id="101" name="타원 24"/>
          <p:cNvSpPr/>
          <p:nvPr/>
        </p:nvSpPr>
        <p:spPr>
          <a:xfrm>
            <a:off x="6954840" y="5297400"/>
            <a:ext cx="260280" cy="260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02" name="그룹 31"/>
          <p:cNvGrpSpPr/>
          <p:nvPr/>
        </p:nvGrpSpPr>
        <p:grpSpPr>
          <a:xfrm>
            <a:off x="7085160" y="4812840"/>
            <a:ext cx="820440" cy="484200"/>
            <a:chOff x="7085160" y="4812840"/>
            <a:chExt cx="820440" cy="484200"/>
          </a:xfrm>
        </p:grpSpPr>
        <p:sp>
          <p:nvSpPr>
            <p:cNvPr id="103" name="직선 연결선 26"/>
            <p:cNvSpPr/>
            <p:nvPr/>
          </p:nvSpPr>
          <p:spPr>
            <a:xfrm flipV="1">
              <a:off x="7085160" y="4812840"/>
              <a:ext cx="10800" cy="484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직선 연결선 27"/>
            <p:cNvSpPr/>
            <p:nvPr/>
          </p:nvSpPr>
          <p:spPr>
            <a:xfrm>
              <a:off x="7085160" y="4819320"/>
              <a:ext cx="8204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5" name="Text Box 8"/>
          <p:cNvSpPr/>
          <p:nvPr/>
        </p:nvSpPr>
        <p:spPr>
          <a:xfrm>
            <a:off x="7920000" y="3447360"/>
            <a:ext cx="13525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spAutoFit/>
          </a:bodyPr>
          <a:p>
            <a:pPr algn="ctr"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철재 고정 브라켓 사용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06" name="그룹 31"/>
          <p:cNvGrpSpPr/>
          <p:nvPr/>
        </p:nvGrpSpPr>
        <p:grpSpPr>
          <a:xfrm>
            <a:off x="7085160" y="3723840"/>
            <a:ext cx="820440" cy="327240"/>
            <a:chOff x="7085160" y="3723840"/>
            <a:chExt cx="820440" cy="327240"/>
          </a:xfrm>
        </p:grpSpPr>
        <p:sp>
          <p:nvSpPr>
            <p:cNvPr id="107" name="직선 연결선 30"/>
            <p:cNvSpPr/>
            <p:nvPr/>
          </p:nvSpPr>
          <p:spPr>
            <a:xfrm flipV="1">
              <a:off x="7095960" y="3723840"/>
              <a:ext cx="0" cy="3272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" name="직선 연결선 31"/>
            <p:cNvSpPr/>
            <p:nvPr/>
          </p:nvSpPr>
          <p:spPr>
            <a:xfrm>
              <a:off x="7085160" y="3730320"/>
              <a:ext cx="8204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9" name="타원 32"/>
          <p:cNvSpPr/>
          <p:nvPr/>
        </p:nvSpPr>
        <p:spPr>
          <a:xfrm>
            <a:off x="6954840" y="4051440"/>
            <a:ext cx="260280" cy="260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10" name="그룹 35"/>
          <p:cNvGrpSpPr/>
          <p:nvPr/>
        </p:nvGrpSpPr>
        <p:grpSpPr>
          <a:xfrm>
            <a:off x="5371200" y="-2311560"/>
            <a:ext cx="5619240" cy="1538280"/>
            <a:chOff x="5371200" y="-2311560"/>
            <a:chExt cx="5619240" cy="1538280"/>
          </a:xfrm>
        </p:grpSpPr>
        <p:sp>
          <p:nvSpPr>
            <p:cNvPr id="111" name="TextBox 54"/>
            <p:cNvSpPr/>
            <p:nvPr/>
          </p:nvSpPr>
          <p:spPr>
            <a:xfrm>
              <a:off x="5371200" y="-2311560"/>
              <a:ext cx="1468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62626"/>
                  </a:solidFill>
                  <a:latin typeface="Arita Sans Medium"/>
                </a:rPr>
                <a:t>FUNCTION</a:t>
              </a:r>
              <a:r>
                <a:rPr b="0" lang="en-US" sz="1400" spc="-1" strike="noStrike">
                  <a:solidFill>
                    <a:srgbClr val="262626"/>
                  </a:solidFill>
                  <a:latin typeface="나눔고딕"/>
                  <a:ea typeface="나눔고딕"/>
                </a:rPr>
                <a:t>_ </a:t>
              </a:r>
              <a:r>
                <a:rPr b="0" lang="ko-KR" sz="1400" spc="-1" strike="noStrike">
                  <a:solidFill>
                    <a:srgbClr val="262626"/>
                  </a:solidFill>
                  <a:latin typeface="나눔고딕"/>
                  <a:ea typeface="나눔고딕"/>
                </a:rPr>
                <a:t>기능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2" name="직사각형 55"/>
            <p:cNvSpPr/>
            <p:nvPr/>
          </p:nvSpPr>
          <p:spPr>
            <a:xfrm>
              <a:off x="5499000" y="-2006640"/>
              <a:ext cx="5491440" cy="12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buClr>
                  <a:srgbClr val="595959"/>
                </a:buClr>
                <a:buFont typeface="맑은 고딕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책장에 상판과 측판을 세우는 구조로 하부 수납가구를 별도로 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 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설치할 필요가 없어 경제적임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25000"/>
                </a:lnSpc>
                <a:buClr>
                  <a:srgbClr val="595959"/>
                </a:buClr>
                <a:buFont typeface="맑은 고딕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책상 배선을 위해 설계되어 개폐가 용이한 </a:t>
              </a: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4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구 콘센트와 배선 홀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25000"/>
                </a:lnSpc>
                <a:buClr>
                  <a:srgbClr val="595959"/>
                </a:buClr>
                <a:buFont typeface="맑은 고딕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책상에 적용된 조용 등 으로 학습 집중도 향상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25000"/>
                </a:lnSpc>
                <a:buClr>
                  <a:srgbClr val="595959"/>
                </a:buClr>
                <a:buFont typeface="맑은 고딕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미니서랍</a:t>
              </a: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,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액세서리 걸이 등을 적용하여 사용자의 편리성을 강화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114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5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116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굴림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8" name="그림 1" descr=""/>
          <p:cNvPicPr/>
          <p:nvPr/>
        </p:nvPicPr>
        <p:blipFill>
          <a:blip r:embed="rId3"/>
          <a:srcRect l="35144" t="1273" r="43808" b="11682"/>
          <a:stretch/>
        </p:blipFill>
        <p:spPr>
          <a:xfrm>
            <a:off x="6357960" y="1241280"/>
            <a:ext cx="1566720" cy="4319640"/>
          </a:xfrm>
          <a:prstGeom prst="rect">
            <a:avLst/>
          </a:prstGeom>
          <a:ln w="0">
            <a:noFill/>
          </a:ln>
        </p:spPr>
      </p:pic>
      <p:sp>
        <p:nvSpPr>
          <p:cNvPr id="119" name="직사각형 14"/>
          <p:cNvSpPr/>
          <p:nvPr/>
        </p:nvSpPr>
        <p:spPr>
          <a:xfrm flipH="1">
            <a:off x="4406760" y="422280"/>
            <a:ext cx="131760" cy="643572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169920" y="996840"/>
            <a:ext cx="4533840" cy="53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600*600*2200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좁은 기숙사 공간을 효율적으로 사용할 수 있도록 디자인한 제품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나무 무늬결 목재의 자연스러움이 돋보임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정리 및 수납 공간을 고려한 실용적인 디자인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다양한 레이아웃 구성이 가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환경 친화적 소재 사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선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옷걸이 봉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 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단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STEEL BASKET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으로 구성된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용 옷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하부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STEEL BASKET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은 서랍형태로 되어 있어 편리하게 사용할 수 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STEEL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재 옷걸이 봉은 내구성이 강하며 견고함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레벨러 기능의 발통으로 수평 조절 가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지정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원자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PB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EDGE : ABS EDGE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컬러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직사각형 1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공통</a:t>
            </a: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LOCKER &lt;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옷장 겸 락커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2" name="그림 10" descr="color.jpg"/>
          <p:cNvPicPr/>
          <p:nvPr/>
        </p:nvPicPr>
        <p:blipFill>
          <a:blip r:embed="rId4"/>
          <a:stretch/>
        </p:blipFill>
        <p:spPr>
          <a:xfrm>
            <a:off x="284040" y="5492880"/>
            <a:ext cx="1729080" cy="36828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51"/>
          <p:cNvSpPr/>
          <p:nvPr/>
        </p:nvSpPr>
        <p:spPr>
          <a:xfrm>
            <a:off x="1981080" y="572436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직선 연결선 21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직사각형 22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직선 연결선 23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128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9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130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굴림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직사각형 14"/>
          <p:cNvSpPr/>
          <p:nvPr/>
        </p:nvSpPr>
        <p:spPr>
          <a:xfrm flipH="1">
            <a:off x="4406760" y="422280"/>
            <a:ext cx="131760" cy="643572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169920" y="996840"/>
            <a:ext cx="4533840" cy="53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600*600*2200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좁은 기숙사 공간을 효율적으로 사용할 수 있도록 디자인한 제품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나무 무늬결 목재의 자연스러움이 돋보임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정리 및 수납 공간을 고려한 실용적인 디자인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다양한 레이아웃 구성이 가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환경 친화적 소재 사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선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옷걸이 봉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 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단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STEEL BASKET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으로 구성된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용 옷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하부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STEEL BASKET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은 서랍형태로 되어 있어 편리하게 사용할 수 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STEEL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재 옷걸이 봉은 내구성이 강하며 견고함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레벨러 기능의 발통으로 수평 조절 가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지정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원자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PB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EDGE : ABS EDGE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컬러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직사각형 1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공통</a:t>
            </a: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LOCKER &lt;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옷장 겸 락커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5" name="그림 10" descr="color.jpg"/>
          <p:cNvPicPr/>
          <p:nvPr/>
        </p:nvPicPr>
        <p:blipFill>
          <a:blip r:embed="rId3"/>
          <a:stretch/>
        </p:blipFill>
        <p:spPr>
          <a:xfrm>
            <a:off x="284040" y="5492880"/>
            <a:ext cx="1729080" cy="36828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51"/>
          <p:cNvSpPr/>
          <p:nvPr/>
        </p:nvSpPr>
        <p:spPr>
          <a:xfrm>
            <a:off x="1981080" y="572436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선 연결선 21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22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선 연결선 23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0" name="Picture 1" descr="그림2"/>
          <p:cNvPicPr/>
          <p:nvPr/>
        </p:nvPicPr>
        <p:blipFill>
          <a:blip r:embed="rId4"/>
          <a:srcRect l="11570" t="7395" r="11446" b="2026"/>
          <a:stretch/>
        </p:blipFill>
        <p:spPr>
          <a:xfrm>
            <a:off x="7180200" y="1380960"/>
            <a:ext cx="2238480" cy="4781880"/>
          </a:xfrm>
          <a:prstGeom prst="rect">
            <a:avLst/>
          </a:prstGeom>
          <a:ln w="0">
            <a:noFill/>
          </a:ln>
        </p:spPr>
      </p:pic>
      <p:pic>
        <p:nvPicPr>
          <p:cNvPr id="141" name="그림 1" descr=""/>
          <p:cNvPicPr/>
          <p:nvPr/>
        </p:nvPicPr>
        <p:blipFill>
          <a:blip r:embed="rId5"/>
          <a:srcRect l="40546" t="5535" r="33847" b="4821"/>
          <a:stretch/>
        </p:blipFill>
        <p:spPr>
          <a:xfrm>
            <a:off x="5283360" y="1441440"/>
            <a:ext cx="1706400" cy="47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5T23:00:37Z</dcterms:created>
  <dc:creator>LIVART</dc:creator>
  <dc:description/>
  <dc:language>en-US</dc:language>
  <cp:lastModifiedBy>ajou</cp:lastModifiedBy>
  <dcterms:modified xsi:type="dcterms:W3CDTF">2016-12-14T06:02:05Z</dcterms:modified>
  <cp:revision>231</cp:revision>
  <dc:subject/>
  <dc:title>슬라이드 1</dc:title>
</cp:coreProperties>
</file>